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7ABA-A5E9-43E4-A835-630DBE9D436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Gutenberg’s printing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5E42-6A21-42B5-90CF-34A3D2A49C7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ffe cups, computers, books as an extension of the eyes, the wheel as an extension of the 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CC57-8400-496E-B95E-45B7A346669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MMMMMMMMMMMMMMMMMMMMMMMMMM Katy Per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D42A-3FB2-402E-9CD0-CFBC2C2C8CC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F75-75D2-4495-BECB-9CC3AD9B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9C4-22D3-4F16-9181-BC6EA367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A43-0463-4162-A9C9-551D4D5F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BF5-0621-4B26-B84F-F473BBB9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433-A621-4C5D-9B92-74F5F33C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302-7612-4F06-BC1A-A1273F60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9A8-AAD4-465C-A482-970E3AB6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48D-4E15-4A21-B2B2-07608208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B52-FA10-4A4A-9585-709AC2C3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04C-340E-4F15-A5D9-07DFF5BC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415-9219-4E4D-A434-B11CBA47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09E-E7F2-4357-8B40-1EBF2E10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EB6A-33AA-4A9F-81F5-2792CAF7CC1D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hapter 4 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chnology and Socia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852720" cy="403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0561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oes Change Begin with the Individual or the Techn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echnological Determi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ople prefer to see themselves as masters of their own destiny and not technology as their ma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ever, there is validity in the stance taken by technological determi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oes Change Begin with the Individual or the Techn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echnological Determi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55640" y="3284640"/>
            <a:ext cx="1380960" cy="131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108000" y="2205000"/>
            <a:ext cx="9360000" cy="4753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744480" y="2781360"/>
            <a:ext cx="3267000" cy="3152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4"/>
          <a:stretch/>
        </p:blipFill>
        <p:spPr>
          <a:xfrm>
            <a:off x="4572000" y="3119400"/>
            <a:ext cx="33242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oes Change Begin with the Individual or the Techn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echnological Determi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684360" y="2095560"/>
            <a:ext cx="7991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4.1 Technology: An agent of Social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lassic example (one of the earliest) examples of technology causing social change??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00000" y="2762280"/>
            <a:ext cx="73440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is Technolog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 are many different definitions of technology according to each person who uses the 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2243160" cy="336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2916360" y="3197160"/>
            <a:ext cx="2950920" cy="337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1904760" cy="280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4"/>
          <a:stretch/>
        </p:blipFill>
        <p:spPr>
          <a:xfrm>
            <a:off x="7754760" y="5445000"/>
            <a:ext cx="13338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is technolog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the purposes of our study technology is “the creation of tools or objects that both extend our natural abilities and alter our social environment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intro of new technology brings along the possibility for both positive and negative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oes Change Begin with the Individual or the Techn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Social Change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oks at the factors contributing to change within the structures of socie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oks at changes in the way people think, feel and act and try to generate reasonable hypothesis to explain why change has taken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oes Change Begin with the Individual or the Techn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Social Change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ange happens in society by countless interactions within society’s framework that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begins wi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90440" y="3924360"/>
            <a:ext cx="438156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3" descr=""/>
          <p:cNvPicPr/>
          <p:nvPr/>
        </p:nvPicPr>
        <p:blipFill>
          <a:blip r:embed="rId2"/>
          <a:stretch/>
        </p:blipFill>
        <p:spPr>
          <a:xfrm>
            <a:off x="4475160" y="4664160"/>
            <a:ext cx="488160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oes Change Begin with the Individual or the Techn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etal change is initiated by an individual person who shares an idea with his or her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oes Change Begin with the Individual or the Techn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echnological Determi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ut forth by Thorstein Veblen (economist and social theori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echnological Determinists see the invention of a particular tool                                        taking on a life of its                                     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wn and society reacting                                     to the new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148360" y="4292640"/>
            <a:ext cx="3816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oes Change Begin with the Individual or the Techn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echnological Determi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traditional schools claim that a change in human                         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 accompanied by new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035080" y="2705040"/>
            <a:ext cx="2271960" cy="235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4859280" y="27352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1:46:21Z</dcterms:created>
  <dc:creator>Jason</dc:creator>
  <dc:description/>
  <dc:language>en-US</dc:language>
  <cp:lastModifiedBy>Jason</cp:lastModifiedBy>
  <dcterms:modified xsi:type="dcterms:W3CDTF">2011-03-30T13:12:24Z</dcterms:modified>
  <cp:revision>7</cp:revision>
  <dc:subject/>
  <dc:title>Chapter 4  Technology and Social Change</dc:title>
</cp:coreProperties>
</file>